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426000"/>
            <a:ext cx="8889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>
              <a:spcBef>
                <a:spcPts val="1049"/>
              </a:spcBef>
              <a:buClr>
                <a:srgbClr val="000000"/>
              </a:buClr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>
              <a:spcBef>
                <a:spcPts val="1049"/>
              </a:spcBef>
              <a:buClr>
                <a:srgbClr val="000000"/>
              </a:buClr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91880" y="1854360"/>
            <a:ext cx="591804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19320" y="5549400"/>
            <a:ext cx="565128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1409760" y="4775040"/>
            <a:ext cx="52830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1879560" y="1599840"/>
            <a:ext cx="924552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5000"/>
          </a:bodyPr>
          <a:p>
            <a:pPr marL="765000" indent="-48420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054800" indent="-45036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34388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89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00000" indent="-5698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241280" indent="-5299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marL="1581120" indent="-4888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  <a:p>
            <a:pPr lvl="3" marL="1987560" indent="-4888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  <a:p>
            <a:pPr lvl="4" marL="2368440" indent="-4888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  <a:p>
            <a:pPr lvl="5" marL="2368440" indent="-488880">
              <a:spcBef>
                <a:spcPts val="9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  <a:p>
            <a:pPr lvl="6" marL="2368440" indent="-488880">
              <a:spcBef>
                <a:spcPts val="9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9560" y="2527200"/>
            <a:ext cx="92455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861320" y="2628720"/>
            <a:ext cx="32637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6000"/>
          </a:bodyPr>
          <a:p>
            <a:pPr marL="390600" indent="-262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547560" indent="-243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0380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89064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106880" y="1139760"/>
            <a:ext cx="4991040" cy="37213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057400" y="5003640"/>
            <a:ext cx="88898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Life Cycles of Living Things</a:t>
            </a:r>
            <a:br>
              <a:rPr sz="8400"/>
            </a:br>
            <a:r>
              <a:rPr b="0" lang="en-US" sz="3600" spc="-1" strike="noStrike">
                <a:solidFill>
                  <a:srgbClr val="000000"/>
                </a:solidFill>
                <a:latin typeface="Party LET"/>
              </a:rPr>
              <a:t>Assessment Photo Albu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rty LET"/>
              </a:rPr>
              <a:t>By: Casey Burdet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Party LE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946920" y="2392200"/>
            <a:ext cx="4076640" cy="53978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ask 6: Butterfly Journal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241280" indent="-5299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Students will observe real caterpillars as they develop into butterflies. Document the changes in your journal using pictures and words.</a:t>
            </a:r>
            <a:endParaRPr b="0" lang="en-US" sz="30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851520" y="2392200"/>
            <a:ext cx="4165560" cy="55375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ask 7: Class Book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Students will need to contribute to their groups’ life cycle page in our class book.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3733920" y="2184480"/>
          <a:ext cx="5892840" cy="684540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  <a:gridCol w="1473120"/>
              </a:tblGrid>
              <a:tr h="171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 Bold"/>
                          <a:ea typeface="Lucida Grande"/>
                        </a:rPr>
                        <a:t>3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1f67"/>
                          </a:solidFill>
                          <a:latin typeface="Chalkboard Bold"/>
                          <a:ea typeface="Heiti SC Medium"/>
                        </a:rPr>
                        <a:t>☺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 Bold"/>
                          <a:ea typeface="Chalkboard Bold"/>
                        </a:rPr>
                        <a:t>2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 Bold"/>
                          <a:ea typeface="Lucida Grande"/>
                        </a:rPr>
                        <a:t>1/0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1f67"/>
                          </a:solidFill>
                          <a:latin typeface="Chalkboard Bold"/>
                          <a:ea typeface="Arial Unicode MS"/>
                        </a:rPr>
                        <a:t>☹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1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Chalkboard"/>
                        </a:rPr>
                        <a:t>E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400" spc="-1" strike="noStrike">
                          <a:solidFill>
                            <a:srgbClr val="001f67"/>
                          </a:solidFill>
                          <a:latin typeface="Chalkboard"/>
                          <a:ea typeface="Zapf Dingbats"/>
                        </a:rPr>
                        <a:t> ✐</a:t>
                      </a:r>
                      <a:endParaRPr b="0" lang="en-US" sz="64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I made an entry everyd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I made an entry 2-3 days a wee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I made an entry 1 day a wee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Chalkboard"/>
                        </a:rPr>
                        <a:t>Pi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400" spc="-1" strike="noStrike">
                          <a:solidFill>
                            <a:srgbClr val="001f67"/>
                          </a:solidFill>
                          <a:latin typeface="Chalkboard"/>
                          <a:ea typeface="ヒラギノ角ゴ ProN W3"/>
                        </a:rPr>
                        <a:t> ☃</a:t>
                      </a:r>
                      <a:endParaRPr b="0" lang="en-US" sz="64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I added pictures most of the ti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I added pictures sometim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I don’t have any pictur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Chalkboard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400" spc="-1" strike="noStrike">
                          <a:solidFill>
                            <a:srgbClr val="001f67"/>
                          </a:solidFill>
                          <a:latin typeface="Chalkboard"/>
                          <a:ea typeface="Zapf Dingbats"/>
                        </a:rPr>
                        <a:t> ✍</a:t>
                      </a:r>
                      <a:endParaRPr b="0" lang="en-US" sz="64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I added letters or words every ti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I added letters or words sometim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I don’t have any letters or word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5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Chalkboard"/>
                        </a:rPr>
                        <a:t>Neat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4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 ✓</a:t>
                      </a:r>
                      <a:endParaRPr b="0" lang="en-US" sz="64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Chalkboard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My work is very neat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My work is pretty nea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1f67"/>
                          </a:solidFill>
                          <a:latin typeface="Chalkboard"/>
                          <a:ea typeface="Lucida Grande"/>
                        </a:rPr>
                        <a:t>My work is mess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Savoye LET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6330600" y="3846600"/>
            <a:ext cx="3658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avoye LE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Butterfly Journal Rubric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1" name=""/>
          <p:cNvSpPr/>
          <p:nvPr/>
        </p:nvSpPr>
        <p:spPr>
          <a:xfrm>
            <a:off x="5334120" y="3123360"/>
            <a:ext cx="114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62040" y="52056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Group Rubric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1816200" y="15876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879560" y="584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Group Rubric (continued)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1803240" y="153684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Group Rubric (continued)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1955880" y="180324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eacher Revision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After sharing my Assessment Photo Album with my group members, these are the changes I made: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581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79560" y="10414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Life Cycles of Living Thing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60080" y="1612800"/>
            <a:ext cx="9245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Chalkboard"/>
              </a:rPr>
              <a:t>Grade Level: Kindergarten</a:t>
            </a:r>
            <a:endParaRPr b="0" lang="en-US" sz="2000" spc="-1" strike="noStrike">
              <a:solidFill>
                <a:srgbClr val="000000"/>
              </a:solidFill>
              <a:latin typeface="Savoye LET"/>
            </a:endParaRPr>
          </a:p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Chalkboard"/>
              </a:rPr>
              <a:t>Subject Areas: Science, Language Arts, &amp; Math</a:t>
            </a:r>
            <a:endParaRPr b="0" lang="en-US" sz="2000" spc="-1" strike="noStrike">
              <a:solidFill>
                <a:srgbClr val="000000"/>
              </a:solidFill>
              <a:latin typeface="Savoye LET"/>
            </a:endParaRPr>
          </a:p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Chalkboard"/>
              </a:rPr>
              <a:t>Learning Goals: </a:t>
            </a:r>
            <a:endParaRPr b="0" lang="en-US" sz="2000" spc="-1" strike="noStrike">
              <a:solidFill>
                <a:srgbClr val="000000"/>
              </a:solidFill>
              <a:latin typeface="Savoye LET"/>
            </a:endParaRPr>
          </a:p>
          <a:p>
            <a:pPr lvl="1" marL="1241280" indent="-5299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Chalkboard"/>
              </a:rPr>
              <a:t>New Jersey State Standard 5.3 Life Science: Observe and record change over time and cycles of change that affect living things </a:t>
            </a:r>
            <a:endParaRPr b="0" lang="en-US" sz="2000" spc="-1" strike="noStrike">
              <a:solidFill>
                <a:srgbClr val="000000"/>
              </a:solidFill>
              <a:latin typeface="Savoye LET"/>
            </a:endParaRPr>
          </a:p>
          <a:p>
            <a:pPr lvl="1" marL="1241280" indent="-5299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Chalkboard"/>
              </a:rPr>
              <a:t>New Jersey State Standard 5.3 Life Science: Record the observable characteristics of plants and animals to determine the similarities and differences between parents and their offspring. </a:t>
            </a:r>
            <a:endParaRPr b="0" lang="en-US" sz="2000" spc="-1" strike="noStrike">
              <a:solidFill>
                <a:srgbClr val="000000"/>
              </a:solidFill>
              <a:latin typeface="Savoye LET"/>
            </a:endParaRPr>
          </a:p>
          <a:p>
            <a:pPr lvl="1" marL="1241280" indent="-5299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Chalkboard"/>
              </a:rPr>
              <a:t>New Jersey State Standard 5.3 Life Science: Determine the characteristic changes that occur during the life cycle of plants and animals by examining a variety of species, and distinguish between growth and development.</a:t>
            </a:r>
            <a:endParaRPr b="0" lang="en-US" sz="20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845400" y="2724120"/>
            <a:ext cx="3924360" cy="52070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Essential Question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044800" y="2018880"/>
            <a:ext cx="4495680" cy="662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Chalkboard"/>
              </a:rPr>
              <a:t>What changes do butterflies and frogs go through during their development? </a:t>
            </a:r>
            <a:endParaRPr b="0" lang="en-US" sz="2400" spc="-1" strike="noStrike">
              <a:solidFill>
                <a:srgbClr val="000000"/>
              </a:solidFill>
              <a:latin typeface="Savoye LET"/>
            </a:endParaRPr>
          </a:p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Chalkboard"/>
              </a:rPr>
              <a:t>Why do living things need to undergo a transformation? </a:t>
            </a:r>
            <a:endParaRPr b="0" lang="en-US" sz="2400" spc="-1" strike="noStrike">
              <a:solidFill>
                <a:srgbClr val="000000"/>
              </a:solidFill>
              <a:latin typeface="Savoye LET"/>
            </a:endParaRPr>
          </a:p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Chalkboard"/>
              </a:rPr>
              <a:t>What are the similarities and differences between these living things and humans in terms of growth and development? </a:t>
            </a:r>
            <a:endParaRPr b="0" lang="en-US" sz="24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7916760" y="2262240"/>
            <a:ext cx="3683160" cy="48769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Assessment Task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33080" y="2133360"/>
            <a:ext cx="6324840" cy="651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241280" indent="-5299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Life Cycle Match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  <a:p>
            <a:pPr lvl="1" marL="1241280" indent="-5299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What Comes Next?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  <a:p>
            <a:pPr lvl="1" marL="1241280" indent="-5299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Butterfly Symmetry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  <a:p>
            <a:pPr lvl="1" marL="1241280" indent="-5299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Pasta Life Cycle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  <a:p>
            <a:pPr lvl="1" marL="1241280" indent="-5299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Photo Timeline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  <a:p>
            <a:pPr lvl="1" marL="1241280" indent="-5299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Butterfly Journal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  <a:p>
            <a:pPr lvl="1" marL="1241280" indent="-52992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Class Book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6851520" y="2392200"/>
            <a:ext cx="4165560" cy="55375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069640" y="800280"/>
            <a:ext cx="924588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ask 1: Life Cycle Match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Students will match life cycle vocabulary words with the picture cards of the corresponding stages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6851520" y="2689200"/>
            <a:ext cx="3721320" cy="494028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ask 2: What Comes Next?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879560" y="2629080"/>
            <a:ext cx="4495680" cy="607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halkboard"/>
                <a:ea typeface="Chalkboard"/>
              </a:rPr>
              <a:t>Students will sequence pictures of the stages (egg, larva or caterpillar, pupa, adult butterfly) of a butterfly and the stages (egg, tadpole, froglet, adult frog) of a frog using a circle web.</a:t>
            </a:r>
            <a:endParaRPr b="0" lang="en-US" sz="30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6845400" y="2392200"/>
            <a:ext cx="4178160" cy="5537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ask 3: Butterfly Symmetry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Students will cut pictures of real butterflies in half to show they are symmetrical.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6845400" y="2392200"/>
            <a:ext cx="4178160" cy="553752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ask 4: Pasta Life Cycle 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  <a:ea typeface="Chalkboard"/>
              </a:rPr>
              <a:t>Students will create a butterfly life cycle using different kinds of pasta and label using vocabulary words.</a:t>
            </a:r>
            <a:endParaRPr b="0" lang="en-US" sz="36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6845400" y="2392200"/>
            <a:ext cx="4178160" cy="55375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ask 5: Photo Timeline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Chalkboard"/>
              </a:rPr>
              <a:t>Along with their family, students will choose a photograph of them as a baby and a photograph of them at their current age. Then, students will bring their pictures to class and create a timeline of their life. They will draw what they think they will look like as an adult. </a:t>
            </a:r>
            <a:endParaRPr b="0" lang="en-US" sz="24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